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2AD-9C37-4024-A2F5-FE63F0A8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E9C-691E-4F43-BCD5-D023B1A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F2B-14E1-42C4-A603-19C2E3C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40-73BF-4319-B8CD-A92166B7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4AE6-BA90-477E-B5CC-E29F2D8A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7F89-2780-4553-859C-C7B6A6EF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835-E9AE-42DF-904F-32E29B9C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05B1-5975-4F20-8683-20C2C9D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F4BC-4316-4D5E-9AF7-8872A5B7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E40-D280-4227-AB2D-B33EE71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667-C059-42B7-93DF-B43F006E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8F5-71AE-4372-90AC-8F44A38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F5D2-1DC7-4F4C-89BD-806DACBE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4E1-D5B3-483B-B2B1-3F5DF1D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96E4-D0E4-4678-8FE4-844DD34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3F7C-2EE6-47B0-A940-E50BE14B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FD7-E6B7-452D-B8D0-BD810FB5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3C3-F92C-4005-B392-E2C58FA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3E2-2626-42C3-BC12-3429A7D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8DD-55D7-4777-934F-5A277B1E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E05-8C84-4D2A-8D61-64C6A4F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10F-347A-4D41-9DDB-F65886B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BF3-1EF5-4EC6-98E5-F9F9829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CCC-16BB-4545-99C3-49AA58E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276-163E-4668-B12A-1A49165B0BC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3A8-2D08-4C57-99D4-5A9F0225D43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ezus@vlada.gov.sk" TargetMode="External"/><Relationship Id="rId2" Type="http://schemas.openxmlformats.org/officeDocument/2006/relationships/hyperlink" Target="mailto:ezus@vlada.gov.sk" TargetMode="External"/><Relationship Id="rId3" Type="http://schemas.openxmlformats.org/officeDocument/2006/relationships/hyperlink" Target="mailto:ezus@vlada.gov.sk" TargetMode="External"/><Relationship Id="rId4" Type="http://schemas.openxmlformats.org/officeDocument/2006/relationships/hyperlink" Target="mailto:ezus@vlada.gov.sk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1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zus.vlada.gov.sk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09308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669999"/>
                </a:solidFill>
                <a:latin typeface="Georgia"/>
              </a:rPr>
              <a:t>  </a:t>
            </a:r>
            <a:r>
              <a:rPr b="1" lang="en-US" sz="4200" spc="-1" strike="noStrike">
                <a:solidFill>
                  <a:srgbClr val="669999"/>
                </a:solidFill>
                <a:latin typeface="Georgia"/>
              </a:rPr>
              <a:t>Experience</a:t>
            </a:r>
            <a:br>
              <a:rPr sz="4200"/>
            </a:br>
            <a:r>
              <a:rPr b="1" lang="en-US" sz="4200" spc="-1" strike="noStrike">
                <a:solidFill>
                  <a:srgbClr val="669999"/>
                </a:solidFill>
                <a:latin typeface="Georgia"/>
              </a:rPr>
              <a:t>  of the Slovak Republic</a:t>
            </a:r>
            <a:br>
              <a:rPr sz="4200"/>
            </a:br>
            <a:r>
              <a:rPr b="1" lang="sk-SK" sz="4200" spc="-1" strike="noStrike">
                <a:solidFill>
                  <a:srgbClr val="669999"/>
                </a:solidFill>
                <a:latin typeface="Georgia"/>
              </a:rPr>
              <a:t>  </a:t>
            </a:r>
            <a:r>
              <a:rPr b="1" lang="sk-SK" sz="2400" spc="-1" strike="noStrike">
                <a:solidFill>
                  <a:srgbClr val="669999"/>
                </a:solidFill>
                <a:latin typeface="Georgia"/>
              </a:rPr>
              <a:t>Budapest April 16, 2015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141720"/>
            <a:ext cx="6248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44440" y="2997360"/>
            <a:ext cx="6886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k-SK" sz="1800" spc="-1" strike="noStrike">
                <a:solidFill>
                  <a:srgbClr val="330066"/>
                </a:solidFill>
                <a:latin typeface="Arial"/>
              </a:rPr>
              <a:t>                                        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E</a:t>
            </a:r>
            <a:r>
              <a:rPr b="1" lang="en-US" sz="3800" spc="-1" strike="noStrike">
                <a:solidFill>
                  <a:srgbClr val="669999"/>
                </a:solidFill>
                <a:latin typeface="Georgia"/>
              </a:rPr>
              <a:t>uropean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                        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G</a:t>
            </a:r>
            <a:r>
              <a:rPr b="1" lang="en-US" sz="3800" spc="-1" strike="noStrike">
                <a:solidFill>
                  <a:srgbClr val="669999"/>
                </a:solidFill>
                <a:latin typeface="Georgia"/>
              </a:rPr>
              <a:t>rouping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669999"/>
                </a:solidFill>
                <a:latin typeface="Georgia"/>
              </a:rPr>
              <a:t>o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                    </a:t>
            </a:r>
            <a:r>
              <a:rPr b="1" lang="sk-SK" sz="38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T</a:t>
            </a:r>
            <a:r>
              <a:rPr b="1" lang="en-US" sz="3800" spc="-1" strike="noStrike">
                <a:solidFill>
                  <a:srgbClr val="669999"/>
                </a:solidFill>
                <a:latin typeface="Georgia"/>
              </a:rPr>
              <a:t>erritorial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                         </a:t>
            </a:r>
            <a:r>
              <a:rPr b="1" lang="sk-SK" sz="38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0066"/>
                </a:solidFill>
                <a:latin typeface="Georgia"/>
              </a:rPr>
              <a:t>C</a:t>
            </a:r>
            <a:r>
              <a:rPr b="1" lang="en-US" sz="3800" spc="-1" strike="noStrike">
                <a:solidFill>
                  <a:srgbClr val="669999"/>
                </a:solidFill>
                <a:latin typeface="Georgia"/>
              </a:rPr>
              <a:t>ooperation</a:t>
            </a:r>
            <a:r>
              <a:rPr b="1" lang="sk-SK" sz="3800" spc="-1" strike="noStrike">
                <a:solidFill>
                  <a:srgbClr val="330066"/>
                </a:solidFill>
                <a:latin typeface="Georgia"/>
              </a:rPr>
              <a:t> </a:t>
            </a:r>
            <a:br>
              <a:rPr sz="3800"/>
            </a:br>
            <a:br>
              <a:rPr sz="1800"/>
            </a:br>
            <a:r>
              <a:rPr b="1" lang="sk-SK" sz="1800" spc="-1" strike="noStrike">
                <a:solidFill>
                  <a:srgbClr val="330066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pict_20090303PHT50735"/>
          <p:cNvPicPr/>
          <p:nvPr/>
        </p:nvPicPr>
        <p:blipFill>
          <a:blip r:embed="rId1"/>
          <a:stretch/>
        </p:blipFill>
        <p:spPr>
          <a:xfrm>
            <a:off x="179280" y="2997360"/>
            <a:ext cx="3508560" cy="3095640"/>
          </a:xfrm>
          <a:prstGeom prst="rect">
            <a:avLst/>
          </a:prstGeom>
          <a:ln w="0">
            <a:noFill/>
          </a:ln>
        </p:spPr>
      </p:pic>
      <p:pic>
        <p:nvPicPr>
          <p:cNvPr id="153" name="Obrázok 0" descr="europska unia.jpg"/>
          <p:cNvPicPr/>
          <p:nvPr/>
        </p:nvPicPr>
        <p:blipFill>
          <a:blip r:embed="rId2"/>
          <a:stretch/>
        </p:blipFill>
        <p:spPr>
          <a:xfrm>
            <a:off x="7797960" y="333360"/>
            <a:ext cx="7315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7597800" y="1197000"/>
            <a:ext cx="1131840" cy="592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5"/>
          <a:stretch/>
        </p:blipFill>
        <p:spPr>
          <a:xfrm>
            <a:off x="7497720" y="5883120"/>
            <a:ext cx="142092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2835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Georgia"/>
              </a:rPr>
              <a:t>EU Cohesion Policy in the 2014 - 2020 period brings new opportunities and challenges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new legis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ew categories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m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embers from third countries or overseas 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  countries or territ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impl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ification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of establish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EGTC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´s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new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ETC programme/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in Joint Ac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- Integrated Territorial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ázok 0" descr="europska unia.jpg"/>
          <p:cNvPicPr/>
          <p:nvPr/>
        </p:nvPicPr>
        <p:blipFill>
          <a:blip r:embed="rId1"/>
          <a:stretch/>
        </p:blipFill>
        <p:spPr>
          <a:xfrm>
            <a:off x="179280" y="163440"/>
            <a:ext cx="827280" cy="731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627280" y="95400"/>
            <a:ext cx="1014480" cy="75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1116000" y="96840"/>
            <a:ext cx="1511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593280"/>
            <a:ext cx="728352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0066"/>
                </a:solidFill>
                <a:latin typeface="Georgia"/>
              </a:rPr>
              <a:t>      </a:t>
            </a:r>
            <a:r>
              <a:rPr b="1" lang="sk-SK" sz="2400" spc="-1" strike="noStrike">
                <a:solidFill>
                  <a:srgbClr val="330066"/>
                </a:solidFill>
                <a:latin typeface="Georgia"/>
              </a:rPr>
              <a:t>Programming period 2014 - 2020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66"/>
              </a:solidFill>
              <a:latin typeface="Georgia"/>
            </a:endParaRPr>
          </a:p>
        </p:txBody>
      </p:sp>
      <p:pic>
        <p:nvPicPr>
          <p:cNvPr id="206" name="Obrázok 0" descr="europska unia.jpg"/>
          <p:cNvPicPr/>
          <p:nvPr/>
        </p:nvPicPr>
        <p:blipFill>
          <a:blip r:embed="rId1"/>
          <a:stretch/>
        </p:blipFill>
        <p:spPr>
          <a:xfrm>
            <a:off x="250920" y="189000"/>
            <a:ext cx="826920" cy="73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2556000" y="93600"/>
            <a:ext cx="1106280" cy="82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324000" y="1341360"/>
          <a:ext cx="8640720" cy="5337360"/>
        </p:xfrm>
        <a:graphic>
          <a:graphicData uri="http://schemas.openxmlformats.org/drawingml/2006/table">
            <a:tbl>
              <a:tblPr/>
              <a:tblGrid>
                <a:gridCol w="4752720"/>
                <a:gridCol w="388800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     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A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uthority responsible for the 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preparation and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245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Cross- border cooperation program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49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Slovak Republic - Czech Republic 2014 - 20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Slovak Republic - Hungary 2014 -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Slovak Republic - Austria 2014 -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Poland - Slovak Republic 2014 -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ENI Hungary - Slovakia - Romania - Ukraine  2014 –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Ministry of Agriculture and Rural Development  of the Slovak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45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Transnational cooperation program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49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Central 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ETC Danu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Government Office of the Slovak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45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Interregional cooperation program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49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INTER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Ministry of Economy of the Slovak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ESP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URB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Ministry of Transport, Construction and Regional Development of the Slovak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INTE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403152"/>
                          </a:solidFill>
                          <a:latin typeface="Georgia"/>
                          <a:ea typeface="Calibri"/>
                        </a:rPr>
                        <a:t>Bratislava Self-governing Region and Ministry  of Economy of the Slovak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31" descr=""/>
          <p:cNvPicPr/>
          <p:nvPr/>
        </p:nvPicPr>
        <p:blipFill>
          <a:blip r:embed="rId3"/>
          <a:stretch/>
        </p:blipFill>
        <p:spPr>
          <a:xfrm>
            <a:off x="1166760" y="6660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90324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Georgia"/>
              </a:rPr>
              <a:t>Thank you for your attention</a:t>
            </a:r>
            <a:r>
              <a:rPr b="1" lang="sk-SK" sz="3600" spc="-1" strike="noStrike">
                <a:solidFill>
                  <a:srgbClr val="330066"/>
                </a:solidFill>
                <a:latin typeface="Georgia"/>
              </a:rPr>
              <a:t>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96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Section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 of Central Coordinatio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Cohesion Policy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e-mail: </a:t>
            </a:r>
            <a:r>
              <a:rPr b="0" lang="sk-SK" sz="2400" spc="-1" strike="noStrike" u="sng">
                <a:solidFill>
                  <a:srgbClr val="7e9ce8"/>
                </a:solidFill>
                <a:uFillTx/>
                <a:latin typeface="Georgia"/>
                <a:hlinkClick r:id="rId1"/>
              </a:rPr>
              <a:t>ezus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Georgia"/>
                <a:hlinkClick r:id="rId2"/>
              </a:rPr>
              <a:t>@</a:t>
            </a:r>
            <a:r>
              <a:rPr b="0" lang="sk-SK" sz="2400" spc="-1" strike="noStrike" u="sng">
                <a:solidFill>
                  <a:srgbClr val="7e9ce8"/>
                </a:solidFill>
                <a:uFillTx/>
                <a:latin typeface="Georgia"/>
                <a:hlinkClick r:id="rId3"/>
              </a:rPr>
              <a:t>vlada.gov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Georgia"/>
                <a:hlinkClick r:id="rId4"/>
              </a:rPr>
              <a:t>.sk</a:t>
            </a: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Georgia"/>
              </a:rPr>
              <a:t>Phone: +421 2</a:t>
            </a:r>
            <a:r>
              <a:rPr b="0" lang="sk-SK" sz="2400" spc="-1" strike="noStrike">
                <a:solidFill>
                  <a:srgbClr val="330066"/>
                </a:solidFill>
                <a:latin typeface="Georgia"/>
              </a:rPr>
              <a:t> 209 25 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Georgia"/>
              </a:rPr>
              <a:t>Government Office of the Slovak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Georgia"/>
              </a:rPr>
              <a:t>Námestie slobody </a:t>
            </a:r>
            <a:r>
              <a:rPr b="0" lang="sk-SK" sz="2700" spc="-1" strike="noStrike">
                <a:solidFill>
                  <a:srgbClr val="330066"/>
                </a:solidFill>
                <a:latin typeface="Georgia"/>
              </a:rPr>
              <a:t>1</a:t>
            </a:r>
            <a:r>
              <a:rPr b="0" lang="en-US" sz="2700" spc="-1" strike="noStrike">
                <a:solidFill>
                  <a:srgbClr val="330066"/>
                </a:solidFill>
                <a:latin typeface="Georgia"/>
              </a:rPr>
              <a:t>, 81</a:t>
            </a:r>
            <a:r>
              <a:rPr b="0" lang="sk-SK" sz="2700" spc="-1" strike="noStrike">
                <a:solidFill>
                  <a:srgbClr val="330066"/>
                </a:solidFill>
                <a:latin typeface="Georgia"/>
              </a:rPr>
              <a:t>3</a:t>
            </a:r>
            <a:r>
              <a:rPr b="0" lang="en-US" sz="27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sk-SK" sz="2700" spc="-1" strike="noStrike">
                <a:solidFill>
                  <a:srgbClr val="330066"/>
                </a:solidFill>
                <a:latin typeface="Georgia"/>
              </a:rPr>
              <a:t>70</a:t>
            </a:r>
            <a:r>
              <a:rPr b="0" lang="en-US" sz="2700" spc="-1" strike="noStrike">
                <a:solidFill>
                  <a:srgbClr val="330066"/>
                </a:solidFill>
                <a:latin typeface="Georgia"/>
              </a:rPr>
              <a:t> Bratisla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330066"/>
                </a:solidFill>
                <a:latin typeface="Georgia"/>
              </a:rPr>
              <a:t>Slovak Republ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rázok 0" descr="europska unia.jpg"/>
          <p:cNvPicPr/>
          <p:nvPr/>
        </p:nvPicPr>
        <p:blipFill>
          <a:blip r:embed="rId5"/>
          <a:stretch/>
        </p:blipFill>
        <p:spPr>
          <a:xfrm>
            <a:off x="469800" y="189000"/>
            <a:ext cx="986040" cy="874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6"/>
          <a:stretch/>
        </p:blipFill>
        <p:spPr>
          <a:xfrm>
            <a:off x="2987640" y="50760"/>
            <a:ext cx="1235160" cy="92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7"/>
          <a:stretch/>
        </p:blipFill>
        <p:spPr>
          <a:xfrm>
            <a:off x="1600200" y="115920"/>
            <a:ext cx="1511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5724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0066"/>
                </a:solidFill>
                <a:latin typeface="Georgia"/>
              </a:rPr>
              <a:t>EU l</a:t>
            </a:r>
            <a:r>
              <a:rPr b="1" lang="en-US" sz="3600" spc="-1" strike="noStrike">
                <a:solidFill>
                  <a:srgbClr val="330066"/>
                </a:solidFill>
                <a:latin typeface="Georgia"/>
              </a:rPr>
              <a:t>egal framewor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Regulation (EC) No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1082/2006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of the European Parliament and of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the Council of 5 July 2006 on a European Grouping of Territorial Cooperation (EG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Regulation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(EU) No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1302/2013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of the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E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uropean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Parliament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and of the Council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of 17 December 2013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amending Regulation (EC)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       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No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1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082/2006 on a European grouping of territorial cooperation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(EGTC) as regards the clarification, simplification and improvement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 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of the establishment and functioning of such grou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ok 0" descr="europska unia.jpg"/>
          <p:cNvPicPr/>
          <p:nvPr/>
        </p:nvPicPr>
        <p:blipFill>
          <a:blip r:embed="rId1"/>
          <a:stretch/>
        </p:blipFill>
        <p:spPr>
          <a:xfrm>
            <a:off x="324000" y="260280"/>
            <a:ext cx="782640" cy="692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2577960" y="115920"/>
            <a:ext cx="1079640" cy="74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1185840" y="115920"/>
            <a:ext cx="1511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9525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0066"/>
                </a:solidFill>
                <a:latin typeface="Georgia"/>
              </a:rPr>
              <a:t>Slovak l</a:t>
            </a:r>
            <a:r>
              <a:rPr b="1" lang="en-US" sz="3600" spc="-1" strike="noStrike">
                <a:solidFill>
                  <a:srgbClr val="330066"/>
                </a:solidFill>
                <a:latin typeface="Georgia"/>
              </a:rPr>
              <a:t>egal framewor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Act No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90/2008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Coll. on a European Grouping of Territorial Cooperation (EGTC) and on the amendment of Act No 540/2001 Coll. on state statistics, as amend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Act No </a:t>
            </a:r>
            <a:r>
              <a:rPr b="1" lang="sk-SK" sz="2000" spc="-1" strike="noStrike">
                <a:solidFill>
                  <a:srgbClr val="330066"/>
                </a:solidFill>
                <a:latin typeface="Georgia"/>
              </a:rPr>
              <a:t>31/2015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Coll. a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mend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ing and supplementing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Act No 90/2008 Coll. on a European Grouping of Territorial Cooperation (EGTC)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    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and on the amendment of Act No 540/2001 Coll. on state statistics, 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as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am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ended</a:t>
            </a:r>
            <a:r>
              <a:rPr b="0" lang="sk-SK" sz="2000" spc="-1" strike="noStrike">
                <a:solidFill>
                  <a:srgbClr val="330066"/>
                </a:solidFill>
                <a:latin typeface="Georgia"/>
              </a:rPr>
              <a:t> as amended and Act No 25/2006 Coll. on Public Procurement, as a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ázok 0" descr="europska unia.jpg"/>
          <p:cNvPicPr/>
          <p:nvPr/>
        </p:nvPicPr>
        <p:blipFill>
          <a:blip r:embed="rId1"/>
          <a:stretch/>
        </p:blipFill>
        <p:spPr>
          <a:xfrm>
            <a:off x="324000" y="260280"/>
            <a:ext cx="782640" cy="69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2577960" y="115920"/>
            <a:ext cx="1079640" cy="74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185840" y="115920"/>
            <a:ext cx="1511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88184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Government Office of the Slovak Republic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4259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Georgia"/>
              </a:rPr>
              <a:t>National approval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Georgia"/>
              </a:rPr>
              <a:t>Register Off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Georgia"/>
              </a:rPr>
              <a:t>maintains the register of EGTC also in electronic fo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Georgia"/>
              </a:rPr>
              <a:t>the register is available at    </a:t>
            </a:r>
            <a:r>
              <a:rPr b="0" lang="en-US" sz="2200" spc="-1" strike="noStrike" u="sng">
                <a:solidFill>
                  <a:srgbClr val="7e9ce8"/>
                </a:solidFill>
                <a:uFillTx/>
                <a:latin typeface="Georgia"/>
                <a:hlinkClick r:id="rId1"/>
              </a:rPr>
              <a:t>http://ezus.vlada.gov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rázok 0" descr="europska unia.jpg"/>
          <p:cNvPicPr/>
          <p:nvPr/>
        </p:nvPicPr>
        <p:blipFill>
          <a:blip r:embed="rId2"/>
          <a:stretch/>
        </p:blipFill>
        <p:spPr>
          <a:xfrm>
            <a:off x="179280" y="189000"/>
            <a:ext cx="792360" cy="69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2556000" y="27000"/>
            <a:ext cx="1180800" cy="884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4"/>
          <a:stretch/>
        </p:blipFill>
        <p:spPr>
          <a:xfrm>
            <a:off x="4648320" y="2604960"/>
            <a:ext cx="4038480" cy="2911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5"/>
          <a:stretch/>
        </p:blipFill>
        <p:spPr>
          <a:xfrm>
            <a:off x="1103400" y="9360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8276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Georgia"/>
              </a:rPr>
              <a:t>Overview of issued approva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4" name="Zástupný symbol obsahu 3"/>
          <p:cNvGraphicFramePr/>
          <p:nvPr/>
        </p:nvGraphicFramePr>
        <p:xfrm>
          <a:off x="406440" y="1670040"/>
          <a:ext cx="833112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Zástupný symbol obsah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670040"/>
                    <a:ext cx="83311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Obrázok 0" descr="europska unia.jpg"/>
          <p:cNvPicPr/>
          <p:nvPr/>
        </p:nvPicPr>
        <p:blipFill>
          <a:blip r:embed="rId3"/>
          <a:stretch/>
        </p:blipFill>
        <p:spPr>
          <a:xfrm>
            <a:off x="250920" y="115920"/>
            <a:ext cx="792000" cy="70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4"/>
          <a:stretch/>
        </p:blipFill>
        <p:spPr>
          <a:xfrm>
            <a:off x="1047600" y="63360"/>
            <a:ext cx="151128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5"/>
          <a:stretch/>
        </p:blipFill>
        <p:spPr>
          <a:xfrm>
            <a:off x="2484360" y="30240"/>
            <a:ext cx="11527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58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Georgia"/>
              </a:rPr>
              <a:t>Categories of Slovak member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Zástupný symbol obsahu 1" descr=""/>
          <p:cNvPicPr/>
          <p:nvPr/>
        </p:nvPicPr>
        <p:blipFill>
          <a:blip r:embed="rId1"/>
          <a:stretch/>
        </p:blipFill>
        <p:spPr>
          <a:xfrm>
            <a:off x="344520" y="1722600"/>
            <a:ext cx="8381880" cy="4781520"/>
          </a:xfrm>
          <a:prstGeom prst="rect">
            <a:avLst/>
          </a:prstGeom>
          <a:ln w="0">
            <a:noFill/>
          </a:ln>
        </p:spPr>
      </p:pic>
      <p:pic>
        <p:nvPicPr>
          <p:cNvPr id="181" name="Obrázok 0" descr="europska unia.jpg"/>
          <p:cNvPicPr/>
          <p:nvPr/>
        </p:nvPicPr>
        <p:blipFill>
          <a:blip r:embed="rId2"/>
          <a:stretch/>
        </p:blipFill>
        <p:spPr>
          <a:xfrm>
            <a:off x="249120" y="115920"/>
            <a:ext cx="792360" cy="70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1116000" y="85680"/>
            <a:ext cx="15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4"/>
          <a:stretch/>
        </p:blipFill>
        <p:spPr>
          <a:xfrm>
            <a:off x="2548080" y="30240"/>
            <a:ext cx="11523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640" y="764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66"/>
                </a:solidFill>
                <a:latin typeface="Georgia"/>
              </a:rPr>
              <a:t>The EGTCs established in the Slovak Republic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1. EGTC KRAS - BODVA ltd.  - </a:t>
            </a:r>
            <a:r>
              <a:rPr b="1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Members: local authorities (municipa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2. EGTC Pons Danubii ltd.  -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Members: local authorities (c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3. EGTC Spoločný región ltd.  - </a:t>
            </a:r>
            <a:r>
              <a:rPr b="1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Members: bodies governed by public l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4. EGTC VIA CARPATIA ltd.  -</a:t>
            </a:r>
            <a:r>
              <a:rPr b="1" lang="sk-SK" sz="20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330066"/>
                </a:solidFill>
                <a:latin typeface="Georgia"/>
              </a:rPr>
              <a:t>Members: regional authorities (self-governing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ázok 0" descr="europska unia.jpg"/>
          <p:cNvPicPr/>
          <p:nvPr/>
        </p:nvPicPr>
        <p:blipFill>
          <a:blip r:embed="rId1"/>
          <a:stretch/>
        </p:blipFill>
        <p:spPr>
          <a:xfrm>
            <a:off x="250920" y="189000"/>
            <a:ext cx="792000" cy="70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2"/>
          <a:stretch/>
        </p:blipFill>
        <p:spPr>
          <a:xfrm>
            <a:off x="2548080" y="30240"/>
            <a:ext cx="1152360" cy="86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3"/>
          <a:stretch/>
        </p:blipFill>
        <p:spPr>
          <a:xfrm>
            <a:off x="1116000" y="8568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28352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0066"/>
                </a:solidFill>
                <a:latin typeface="Georgia"/>
              </a:rPr>
              <a:t>        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Findings of the Slovak Republic</a:t>
            </a:r>
            <a:r>
              <a:rPr b="1" lang="sk-SK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insufficient identification of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objectives and tasks </a:t>
            </a: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of the EG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EGTCs established  on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small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different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legal status </a:t>
            </a: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of the EGTC</a:t>
            </a:r>
            <a:r>
              <a:rPr b="0" lang="sk-SK" sz="2800" spc="-1" strike="noStrike">
                <a:solidFill>
                  <a:srgbClr val="330066"/>
                </a:solidFill>
                <a:latin typeface="Georgia"/>
              </a:rPr>
              <a:t> in M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rázok 0" descr="europska unia.jpg"/>
          <p:cNvPicPr/>
          <p:nvPr/>
        </p:nvPicPr>
        <p:blipFill>
          <a:blip r:embed="rId1"/>
          <a:stretch/>
        </p:blipFill>
        <p:spPr>
          <a:xfrm>
            <a:off x="179280" y="195120"/>
            <a:ext cx="863640" cy="765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2627280" y="112680"/>
            <a:ext cx="1066680" cy="797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Users\keliarova\Pictures\343_logo.jpg"/>
          <p:cNvPicPr/>
          <p:nvPr/>
        </p:nvPicPr>
        <p:blipFill>
          <a:blip r:embed="rId3"/>
          <a:stretch/>
        </p:blipFill>
        <p:spPr>
          <a:xfrm>
            <a:off x="1190520" y="92160"/>
            <a:ext cx="1511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28352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0066"/>
                </a:solidFill>
                <a:latin typeface="Georgia"/>
              </a:rPr>
              <a:t>        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Findings of the Slovak Republic</a:t>
            </a:r>
            <a:r>
              <a:rPr b="1" lang="sk-SK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lack of 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overview</a:t>
            </a: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 in available leg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insufficient funding </a:t>
            </a: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of established EG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0066"/>
                </a:solidFill>
                <a:latin typeface="Georgia"/>
              </a:rPr>
              <a:t>i</a:t>
            </a:r>
            <a:r>
              <a:rPr b="1" lang="en-US" sz="2800" spc="-1" strike="noStrike">
                <a:solidFill>
                  <a:srgbClr val="330066"/>
                </a:solidFill>
                <a:latin typeface="Georgia"/>
              </a:rPr>
              <a:t>naction</a:t>
            </a:r>
            <a:r>
              <a:rPr b="1" lang="sk-SK" sz="2800" spc="-1" strike="noStrike">
                <a:solidFill>
                  <a:srgbClr val="330066"/>
                </a:solidFill>
                <a:latin typeface="Georgia"/>
              </a:rPr>
              <a:t> </a:t>
            </a:r>
            <a:r>
              <a:rPr b="0" lang="sk-SK" sz="2800" spc="-1" strike="noStrike">
                <a:solidFill>
                  <a:srgbClr val="330066"/>
                </a:solidFill>
                <a:latin typeface="Georgia"/>
              </a:rPr>
              <a:t>of</a:t>
            </a:r>
            <a:r>
              <a:rPr b="0" lang="en-US" sz="2800" spc="-1" strike="noStrike">
                <a:solidFill>
                  <a:srgbClr val="330066"/>
                </a:solidFill>
                <a:latin typeface="Georgia"/>
              </a:rPr>
              <a:t> some EGTC</a:t>
            </a:r>
            <a:r>
              <a:rPr b="0" lang="sk-SK" sz="2800" spc="-1" strike="noStrike">
                <a:solidFill>
                  <a:srgbClr val="330066"/>
                </a:solidFill>
                <a:latin typeface="Georgi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ázok 0" descr="europska unia.jpg"/>
          <p:cNvPicPr/>
          <p:nvPr/>
        </p:nvPicPr>
        <p:blipFill>
          <a:blip r:embed="rId1"/>
          <a:stretch/>
        </p:blipFill>
        <p:spPr>
          <a:xfrm>
            <a:off x="179280" y="195120"/>
            <a:ext cx="863640" cy="76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2627280" y="112680"/>
            <a:ext cx="1066680" cy="79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keliarova\Pictures\343_logo.jpg"/>
          <p:cNvPicPr/>
          <p:nvPr/>
        </p:nvPicPr>
        <p:blipFill>
          <a:blip r:embed="rId3"/>
          <a:stretch/>
        </p:blipFill>
        <p:spPr>
          <a:xfrm>
            <a:off x="1190520" y="92160"/>
            <a:ext cx="1511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8:46:46Z</dcterms:created>
  <dc:creator>WarezBos</dc:creator>
  <dc:description/>
  <dc:language>en-US</dc:language>
  <cp:lastModifiedBy>Váradi Ildikó</cp:lastModifiedBy>
  <dcterms:modified xsi:type="dcterms:W3CDTF">2015-04-10T12:39:01Z</dcterms:modified>
  <cp:revision>115</cp:revision>
  <dc:subject/>
  <dc:title>Snímek 1</dc:title>
</cp:coreProperties>
</file>